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AB9D-B1EE-4D33-9B09-6392D416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618-0764-4B87-899F-05611CA0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645-CA11-420B-BA58-4728B0C2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EBB5-C0D4-460E-B251-EA5AFCD1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0057-2210-42A5-8A46-EFE995A6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2DC-5946-49F6-B3AC-C61F819D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005F-198A-4D10-B908-5C9384CD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210-865A-4B21-92DF-B29AD0B5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856-4655-4735-A80B-2F468C4A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ED0-361A-4F77-9CAE-6358BFF0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126C-1640-4195-AB15-C7C42205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77B-57B2-48B8-8FE9-9AD7A1C9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4C43-D115-458B-8B47-1A673A3F0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1440" y="6557040"/>
              <a:ext cx="262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Pre-Algeb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12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Variabili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04640" y="137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Variabili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53080"/>
              <a:ext cx="202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Pre-Algeb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62916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range and the first and third quartiles for the data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360" y="115776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7240" y="2951280"/>
            <a:ext cx="70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25, 38, 66, 19, 91, 47,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31920" y="3594240"/>
            <a:ext cx="42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  19  25  38  47  66  9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42000" y="3540240"/>
            <a:ext cx="29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Order the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12920" y="4245120"/>
            <a:ext cx="37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ng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91 – 13 = 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85920" y="4960800"/>
            <a:ext cx="38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quarti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60360" y="5645160"/>
            <a:ext cx="38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quarti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2440" y="3591000"/>
            <a:ext cx="173700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62280" y="3591000"/>
            <a:ext cx="173664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9800" y="3611520"/>
            <a:ext cx="461880" cy="417600"/>
          </a:xfrm>
          <a:prstGeom prst="roundRect">
            <a:avLst>
              <a:gd name="adj" fmla="val 3840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0" y="3610080"/>
            <a:ext cx="461880" cy="417240"/>
          </a:xfrm>
          <a:prstGeom prst="roundRect">
            <a:avLst>
              <a:gd name="adj" fmla="val 3840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7240" y="2951280"/>
            <a:ext cx="70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45, 31, 59, 49, 49, 69, 33,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31920" y="3594240"/>
            <a:ext cx="42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1 33 45 47 49 49 59 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42000" y="3540240"/>
            <a:ext cx="29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Order the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12920" y="4245120"/>
            <a:ext cx="37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ng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69 – 31 = 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52440" y="3591000"/>
            <a:ext cx="202716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81400" y="3591000"/>
            <a:ext cx="211752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5720" y="3611520"/>
            <a:ext cx="1031760" cy="4176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27440" y="3610080"/>
            <a:ext cx="1031760" cy="4172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range and the first and third quartiles for the data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360" y="115776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327320" y="4710240"/>
            <a:ext cx="5903640" cy="825480"/>
            <a:chOff x="1327320" y="4710240"/>
            <a:chExt cx="5903640" cy="825480"/>
          </a:xfrm>
        </p:grpSpPr>
        <p:sp>
          <p:nvSpPr>
            <p:cNvPr id="157" name=""/>
            <p:cNvSpPr/>
            <p:nvPr/>
          </p:nvSpPr>
          <p:spPr>
            <a:xfrm>
              <a:off x="1327320" y="4884840"/>
              <a:ext cx="59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rst quartile: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         = 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73280" y="4710240"/>
              <a:ext cx="210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3 + 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46600" y="5137200"/>
              <a:ext cx="123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268280" y="5522760"/>
            <a:ext cx="6048360" cy="825480"/>
            <a:chOff x="1268280" y="5522760"/>
            <a:chExt cx="6048360" cy="825480"/>
          </a:xfrm>
        </p:grpSpPr>
        <p:sp>
          <p:nvSpPr>
            <p:cNvPr id="161" name=""/>
            <p:cNvSpPr/>
            <p:nvPr/>
          </p:nvSpPr>
          <p:spPr>
            <a:xfrm>
              <a:off x="1268280" y="5715000"/>
              <a:ext cx="60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hird quartile: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         = 5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73440" y="5522760"/>
              <a:ext cx="162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9 + 5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60640" y="5964120"/>
              <a:ext cx="12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507960" y="5029200"/>
            <a:ext cx="8076960" cy="840600"/>
            <a:chOff x="507960" y="5029200"/>
            <a:chExt cx="8076960" cy="840600"/>
          </a:xfrm>
        </p:grpSpPr>
        <p:sp>
          <p:nvSpPr>
            <p:cNvPr id="165" name=""/>
            <p:cNvSpPr/>
            <p:nvPr/>
          </p:nvSpPr>
          <p:spPr>
            <a:xfrm>
              <a:off x="507960" y="5181480"/>
              <a:ext cx="807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2520" y="5410080"/>
              <a:ext cx="739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 2     3     4     5     6     7    8   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26920" y="50292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74840" y="50292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60640" y="50292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4880" y="50292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89480" y="50292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94360" y="50292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80160" y="50292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89640" y="50292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41520" y="50292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V="1">
            <a:off x="3857760" y="4190760"/>
            <a:ext cx="0" cy="609480"/>
          </a:xfrm>
          <a:prstGeom prst="line">
            <a:avLst/>
          </a:prstGeom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87800" y="4191120"/>
            <a:ext cx="1396800" cy="61092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462040" y="4495320"/>
            <a:ext cx="735120" cy="3240"/>
          </a:xfrm>
          <a:prstGeom prst="line">
            <a:avLst/>
          </a:prstGeom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89640" y="4505400"/>
            <a:ext cx="649080" cy="1440"/>
          </a:xfrm>
          <a:prstGeom prst="line">
            <a:avLst/>
          </a:prstGeom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69840" y="1014480"/>
            <a:ext cx="724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ox-and-whisk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l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hows the distribution of data. The middle half of the data is represented by a “box” with a vertical line at the median. The lower fourth and upper fourth quarters are represented by “whiskers” that extend to the smallest and largest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6960" y="609444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First quar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24320" y="610380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Third quar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86000" y="580536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527200" y="4557600"/>
            <a:ext cx="590760" cy="16034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860640" y="4780080"/>
            <a:ext cx="0" cy="11109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4647960" y="4566960"/>
            <a:ext cx="549000" cy="16160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67000" y="443232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05000" y="4427640"/>
            <a:ext cx="15264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72080" y="4422600"/>
            <a:ext cx="152280" cy="152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4403880"/>
            <a:ext cx="15264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91200" y="441324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1681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Use the given data to make a box-and-whisker plo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21, 25, 15, 13, 17, 19, 19, 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920" y="989280"/>
            <a:ext cx="90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Making a Box-and-Whisker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8440" y="2631960"/>
            <a:ext cx="865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der the data and find the smallest value, first quartile, median, third quartile, and largest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521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 15 17 19 19 21 21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9720" y="408456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est value: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61080" y="40924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st value: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76200" y="4923000"/>
            <a:ext cx="4284720" cy="707760"/>
            <a:chOff x="376200" y="4923000"/>
            <a:chExt cx="4284720" cy="707760"/>
          </a:xfrm>
        </p:grpSpPr>
        <p:sp>
          <p:nvSpPr>
            <p:cNvPr id="199" name=""/>
            <p:cNvSpPr/>
            <p:nvPr/>
          </p:nvSpPr>
          <p:spPr>
            <a:xfrm>
              <a:off x="376200" y="5013360"/>
              <a:ext cx="42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first quartile:          = 16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81120" y="4923000"/>
              <a:ext cx="11322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5 + 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7040" y="5263920"/>
              <a:ext cx="87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870440" y="4929120"/>
            <a:ext cx="4273560" cy="707760"/>
            <a:chOff x="4870440" y="4929120"/>
            <a:chExt cx="4273560" cy="707760"/>
          </a:xfrm>
        </p:grpSpPr>
        <p:sp>
          <p:nvSpPr>
            <p:cNvPr id="203" name=""/>
            <p:cNvSpPr/>
            <p:nvPr/>
          </p:nvSpPr>
          <p:spPr>
            <a:xfrm>
              <a:off x="4870440" y="5011560"/>
              <a:ext cx="427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ird quartile:          = 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75440" y="4929120"/>
              <a:ext cx="11318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1 + 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91360" y="5270400"/>
              <a:ext cx="87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679840" y="5708520"/>
            <a:ext cx="3566880" cy="707760"/>
            <a:chOff x="2679840" y="5708520"/>
            <a:chExt cx="3566880" cy="707760"/>
          </a:xfrm>
        </p:grpSpPr>
        <p:sp>
          <p:nvSpPr>
            <p:cNvPr id="207" name=""/>
            <p:cNvSpPr/>
            <p:nvPr/>
          </p:nvSpPr>
          <p:spPr>
            <a:xfrm>
              <a:off x="2679840" y="5783040"/>
              <a:ext cx="35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edian:          = 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22640" y="5708520"/>
              <a:ext cx="11318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9 + 1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38560" y="6049800"/>
              <a:ext cx="87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565360" y="3510000"/>
            <a:ext cx="202716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560" y="3532320"/>
            <a:ext cx="1031760" cy="4172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00440" y="3510000"/>
            <a:ext cx="202752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59440" y="3532320"/>
            <a:ext cx="1031760" cy="4172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76640" y="3532320"/>
            <a:ext cx="1005120" cy="4172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98440" y="2633760"/>
            <a:ext cx="884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der the data and find the smallest value, first quartile, median, third quartile, and largest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1360" y="2538360"/>
            <a:ext cx="8972640" cy="1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6383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Use the given data to make a box-and-whisker plo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3520" y="5472000"/>
            <a:ext cx="8076960" cy="840600"/>
            <a:chOff x="533520" y="5472000"/>
            <a:chExt cx="8076960" cy="840600"/>
          </a:xfrm>
        </p:grpSpPr>
        <p:sp>
          <p:nvSpPr>
            <p:cNvPr id="219" name=""/>
            <p:cNvSpPr/>
            <p:nvPr/>
          </p:nvSpPr>
          <p:spPr>
            <a:xfrm>
              <a:off x="533520" y="5624280"/>
              <a:ext cx="807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5852880"/>
              <a:ext cx="739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2   14   16   18   20   22   24   26  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5248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0040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8620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0044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1504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1992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1520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6708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057400" y="486252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486252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4862520"/>
            <a:ext cx="15264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4862520"/>
            <a:ext cx="15264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8440" y="2631960"/>
            <a:ext cx="865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raw a number line and plot a point above each value from Step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97080" y="4871880"/>
            <a:ext cx="152640" cy="152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67000" y="3814920"/>
            <a:ext cx="124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st value  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521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 15 17 19 19 21 21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65360" y="3510000"/>
            <a:ext cx="202716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9560" y="3532320"/>
            <a:ext cx="1031760" cy="4172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00440" y="3510000"/>
            <a:ext cx="202752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59440" y="3532320"/>
            <a:ext cx="1031760" cy="4172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76640" y="3532320"/>
            <a:ext cx="1005120" cy="4172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27200" y="3906720"/>
            <a:ext cx="131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quartile  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56080" y="3971880"/>
            <a:ext cx="1312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08560" y="3936960"/>
            <a:ext cx="131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quartile  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24360" y="3962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rgest value  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920" y="989640"/>
            <a:ext cx="90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500"/>
                            </p:stCondLst>
                            <p:childTnLst>
                              <p:par>
                                <p:cTn id="4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98440" y="2635200"/>
            <a:ext cx="865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raw a number line and plot a point above each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6383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Use the given data to make a box-and-whisker plo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33520" y="5472000"/>
            <a:ext cx="8076960" cy="840600"/>
            <a:chOff x="533520" y="5472000"/>
            <a:chExt cx="8076960" cy="840600"/>
          </a:xfrm>
        </p:grpSpPr>
        <p:sp>
          <p:nvSpPr>
            <p:cNvPr id="251" name=""/>
            <p:cNvSpPr/>
            <p:nvPr/>
          </p:nvSpPr>
          <p:spPr>
            <a:xfrm>
              <a:off x="533520" y="5624280"/>
              <a:ext cx="807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8080" y="5852880"/>
              <a:ext cx="739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2   14   16   18   20   22   24   26  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5248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0040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8620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0044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1504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1992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0572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1520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6708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133360" y="4633560"/>
            <a:ext cx="4267440" cy="625680"/>
            <a:chOff x="2133360" y="4633560"/>
            <a:chExt cx="4267440" cy="625680"/>
          </a:xfrm>
        </p:grpSpPr>
        <p:sp>
          <p:nvSpPr>
            <p:cNvPr id="263" name=""/>
            <p:cNvSpPr/>
            <p:nvPr/>
          </p:nvSpPr>
          <p:spPr>
            <a:xfrm>
              <a:off x="3186000" y="4633920"/>
              <a:ext cx="1847880" cy="625320"/>
            </a:xfrm>
            <a:prstGeom prst="rect">
              <a:avLst/>
            </a:pr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267080" y="4633560"/>
              <a:ext cx="0" cy="609480"/>
            </a:xfrm>
            <a:prstGeom prst="line">
              <a:avLst/>
            </a:prstGeom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133360" y="4938480"/>
              <a:ext cx="1066680" cy="0"/>
            </a:xfrm>
            <a:prstGeom prst="line">
              <a:avLst/>
            </a:prstGeom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29200" y="4938480"/>
              <a:ext cx="1371600" cy="0"/>
            </a:xfrm>
            <a:prstGeom prst="line">
              <a:avLst/>
            </a:prstGeom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177840" y="2529000"/>
            <a:ext cx="8800920" cy="98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8440" y="2631960"/>
            <a:ext cx="865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raw the box and whisk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521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 15 17 19 19 21 21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65360" y="3510000"/>
            <a:ext cx="202716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9560" y="3532320"/>
            <a:ext cx="1031760" cy="4172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00440" y="3510000"/>
            <a:ext cx="202752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59440" y="3532320"/>
            <a:ext cx="1031760" cy="4172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76640" y="3532320"/>
            <a:ext cx="1005120" cy="4172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920" y="989640"/>
            <a:ext cx="90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66760" y="4857840"/>
            <a:ext cx="15264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91120" y="486252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4862520"/>
            <a:ext cx="15264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24480" y="4862520"/>
            <a:ext cx="15264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97080" y="4871880"/>
            <a:ext cx="152640" cy="152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348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3 24 26 29 31 31 33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1638360"/>
            <a:ext cx="914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Use the given data to make a box-and-whisker plo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31, 23, 33, 35, 26, 24, 31, 2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06600" y="954720"/>
            <a:ext cx="60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8440" y="2460600"/>
            <a:ext cx="865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der the data and find the smallest value, first quartile, median, third quartile, and largest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8360" y="4414680"/>
            <a:ext cx="40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est value: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95720" y="4427640"/>
            <a:ext cx="38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st value: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52520" y="4970520"/>
            <a:ext cx="4284720" cy="707760"/>
            <a:chOff x="452520" y="4970520"/>
            <a:chExt cx="4284720" cy="707760"/>
          </a:xfrm>
        </p:grpSpPr>
        <p:sp>
          <p:nvSpPr>
            <p:cNvPr id="288" name=""/>
            <p:cNvSpPr/>
            <p:nvPr/>
          </p:nvSpPr>
          <p:spPr>
            <a:xfrm>
              <a:off x="452520" y="5060880"/>
              <a:ext cx="42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first quartile:          = 25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57440" y="4970520"/>
              <a:ext cx="11318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4 + 2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73360" y="5311800"/>
              <a:ext cx="87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662360" y="4951440"/>
            <a:ext cx="4273560" cy="707760"/>
            <a:chOff x="4662360" y="4951440"/>
            <a:chExt cx="4273560" cy="707760"/>
          </a:xfrm>
        </p:grpSpPr>
        <p:sp>
          <p:nvSpPr>
            <p:cNvPr id="292" name=""/>
            <p:cNvSpPr/>
            <p:nvPr/>
          </p:nvSpPr>
          <p:spPr>
            <a:xfrm>
              <a:off x="4662360" y="5051520"/>
              <a:ext cx="427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ird quartile:          = 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86440" y="4951440"/>
              <a:ext cx="11322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31 + 3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20000" y="5310000"/>
              <a:ext cx="86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2789280" y="5837400"/>
            <a:ext cx="3567240" cy="707760"/>
            <a:chOff x="2789280" y="5837400"/>
            <a:chExt cx="3567240" cy="707760"/>
          </a:xfrm>
        </p:grpSpPr>
        <p:sp>
          <p:nvSpPr>
            <p:cNvPr id="296" name=""/>
            <p:cNvSpPr/>
            <p:nvPr/>
          </p:nvSpPr>
          <p:spPr>
            <a:xfrm>
              <a:off x="2789280" y="5911920"/>
              <a:ext cx="35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edian:          = 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132440" y="5837400"/>
              <a:ext cx="11318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9 + 3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248000" y="6178680"/>
              <a:ext cx="87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565360" y="3481560"/>
            <a:ext cx="202716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49560" y="3503520"/>
            <a:ext cx="1031760" cy="4176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00440" y="3481560"/>
            <a:ext cx="202752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59440" y="3503520"/>
            <a:ext cx="1031760" cy="4176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076640" y="3503520"/>
            <a:ext cx="1005120" cy="4176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71360" y="2038320"/>
            <a:ext cx="8972640" cy="1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16383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Use the given data to make a box-and-whisker plo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65360" y="3481560"/>
            <a:ext cx="202716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9560" y="3503520"/>
            <a:ext cx="1031760" cy="4176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00440" y="3481560"/>
            <a:ext cx="202752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059440" y="3503520"/>
            <a:ext cx="1031760" cy="4176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076640" y="3503520"/>
            <a:ext cx="1005120" cy="4176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07960" y="5300640"/>
            <a:ext cx="8076960" cy="840600"/>
            <a:chOff x="507960" y="5300640"/>
            <a:chExt cx="8076960" cy="840600"/>
          </a:xfrm>
        </p:grpSpPr>
        <p:sp>
          <p:nvSpPr>
            <p:cNvPr id="312" name=""/>
            <p:cNvSpPr/>
            <p:nvPr/>
          </p:nvSpPr>
          <p:spPr>
            <a:xfrm>
              <a:off x="507960" y="5452920"/>
              <a:ext cx="807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2520" y="5681520"/>
              <a:ext cx="739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2   24   26   28   30   32   34   36  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2692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7484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6064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7488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8948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9436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8016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8964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4152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057400" y="469116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81360" y="469116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05400" y="469116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19640" y="4691160"/>
            <a:ext cx="15264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276960" y="469116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2584440"/>
            <a:ext cx="865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raw a number line and plot a point above each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48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3 24 26 29 31 31 33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840" y="1022760"/>
            <a:ext cx="91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2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8440" y="2463840"/>
            <a:ext cx="865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raw a number line and plot a point above each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6383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Use the given data to make a box-and-whisker plo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65360" y="3481560"/>
            <a:ext cx="202716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49560" y="3503520"/>
            <a:ext cx="1031760" cy="4176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00440" y="3481560"/>
            <a:ext cx="202752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59440" y="3503520"/>
            <a:ext cx="1031760" cy="4176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76640" y="3503520"/>
            <a:ext cx="1005120" cy="4176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07960" y="5300640"/>
            <a:ext cx="8076960" cy="840600"/>
            <a:chOff x="507960" y="5300640"/>
            <a:chExt cx="8076960" cy="840600"/>
          </a:xfrm>
        </p:grpSpPr>
        <p:sp>
          <p:nvSpPr>
            <p:cNvPr id="339" name=""/>
            <p:cNvSpPr/>
            <p:nvPr/>
          </p:nvSpPr>
          <p:spPr>
            <a:xfrm>
              <a:off x="507960" y="5452920"/>
              <a:ext cx="807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12520" y="5681520"/>
              <a:ext cx="739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2   24   26   28   30   32   34   36  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2692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7484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6064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7488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8948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9436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8016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8964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4152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177840" y="2357280"/>
            <a:ext cx="880092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98440" y="2460600"/>
            <a:ext cx="865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raw the box and whisk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48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3 24 26 29 31 31 33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147760" y="4462200"/>
            <a:ext cx="4219560" cy="625680"/>
            <a:chOff x="2147760" y="4462200"/>
            <a:chExt cx="4219560" cy="625680"/>
          </a:xfrm>
        </p:grpSpPr>
        <p:sp>
          <p:nvSpPr>
            <p:cNvPr id="354" name=""/>
            <p:cNvSpPr/>
            <p:nvPr/>
          </p:nvSpPr>
          <p:spPr>
            <a:xfrm flipV="1">
              <a:off x="4586400" y="4462200"/>
              <a:ext cx="0" cy="609480"/>
            </a:xfrm>
            <a:prstGeom prst="line">
              <a:avLst/>
            </a:prstGeom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73520" y="4462560"/>
              <a:ext cx="2409840" cy="625320"/>
            </a:xfrm>
            <a:prstGeom prst="rect">
              <a:avLst/>
            </a:pr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2147760" y="4766760"/>
              <a:ext cx="735120" cy="3240"/>
            </a:xfrm>
            <a:prstGeom prst="line">
              <a:avLst/>
            </a:prstGeom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88040" y="4762440"/>
              <a:ext cx="1079280" cy="1800"/>
            </a:xfrm>
            <a:prstGeom prst="line">
              <a:avLst/>
            </a:prstGeom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5840" y="1022760"/>
            <a:ext cx="91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2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469116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81360" y="469116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05400" y="469116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19640" y="4691160"/>
            <a:ext cx="15264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76960" y="469116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1880" y="771840"/>
            <a:ext cx="823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Comparing Data Sets Using Box-and-Whisker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1600" y="4349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se box-and-whisker plots compare the ages of the first ten U.S. presidents with the ages of the last ten presidents (through George W. Bush) when they took off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081160" y="1700280"/>
            <a:ext cx="4997520" cy="24415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7027920" y="1835280"/>
            <a:ext cx="236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: 57 is the first quartile and the med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933480"/>
            <a:ext cx="8153280" cy="50673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der the test scores from least t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: 89, 93, 79, 87, 91, 88, 9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ind the median of the test sc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d the dif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20600" y="229464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79, 87, 88, 89, 91, 92, 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3600" y="3364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28840" y="4742640"/>
            <a:ext cx="18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16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440" y="6557040"/>
              <a:ext cx="262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Pre-Algeb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512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Variabili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996240" y="5333400"/>
            <a:ext cx="18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166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4742640"/>
            <a:ext cx="18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57280" y="5342760"/>
            <a:ext cx="18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0680" y="4606920"/>
            <a:ext cx="9212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7 – 0.9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8.4 – 7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7720" y="5348160"/>
            <a:ext cx="91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.1 – 5.7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90.3 – 2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61880" y="954720"/>
            <a:ext cx="82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1160" y="1700280"/>
            <a:ext cx="4997520" cy="24415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69800" y="4491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Compare the medians and range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55800" y="4952880"/>
            <a:ext cx="72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edian for the first ten presidents is slightly greater. The range for the last ten presidents is gre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027920" y="1835280"/>
            <a:ext cx="236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: 57 is the first quartile and the med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61880" y="954720"/>
            <a:ext cx="82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2081160" y="1700280"/>
            <a:ext cx="4997520" cy="24415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469800" y="4491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Compare the differences between the thir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rtile and first quartile for each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60480" y="528948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fference between the third quartile and first quartile is the length of the box, which is greater for the last ten presid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027920" y="1835280"/>
            <a:ext cx="236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: 57 is the first quartile and the med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61880" y="954720"/>
            <a:ext cx="82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322200" y="1477800"/>
          <a:ext cx="4356000" cy="1185840"/>
        </p:xfrm>
        <a:graphic>
          <a:graphicData uri="http://schemas.openxmlformats.org/drawingml/2006/table">
            <a:tbl>
              <a:tblPr/>
              <a:tblGrid>
                <a:gridCol w="1495440"/>
                <a:gridCol w="536400"/>
                <a:gridCol w="581040"/>
                <a:gridCol w="581040"/>
                <a:gridCol w="581040"/>
                <a:gridCol w="581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ak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mpa B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223920" y="2962440"/>
            <a:ext cx="383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se box-and-whisker plots compare the scores per quarter at Super Bowl XXXVII. The data in the T column is left out because it is a total of all the quar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859200" y="2449440"/>
            <a:ext cx="5056200" cy="3817080"/>
            <a:chOff x="3859200" y="2449440"/>
            <a:chExt cx="5056200" cy="3817080"/>
          </a:xfrm>
        </p:grpSpPr>
        <p:sp>
          <p:nvSpPr>
            <p:cNvPr id="382" name=""/>
            <p:cNvSpPr/>
            <p:nvPr/>
          </p:nvSpPr>
          <p:spPr>
            <a:xfrm flipV="1">
              <a:off x="3963960" y="3671280"/>
              <a:ext cx="4540320" cy="46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29120" y="2449440"/>
              <a:ext cx="26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ak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00560" y="356364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23000" y="356220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72080" y="356364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73640" y="356364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497720" y="356220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72320" y="3560400"/>
              <a:ext cx="0" cy="2178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59200" y="3816000"/>
              <a:ext cx="49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 3    6    9   12   15   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06920" y="2879640"/>
              <a:ext cx="1555920" cy="56196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56360" y="2879640"/>
              <a:ext cx="0" cy="561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94080" y="2879640"/>
              <a:ext cx="0" cy="561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51800" y="2879640"/>
              <a:ext cx="0" cy="561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99120" y="3160440"/>
              <a:ext cx="30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64280" y="3160440"/>
              <a:ext cx="5875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14800" y="5135400"/>
              <a:ext cx="108108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03800" y="4848120"/>
              <a:ext cx="1560600" cy="56196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69120" y="4868640"/>
              <a:ext cx="0" cy="549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54920" y="4846320"/>
              <a:ext cx="0" cy="5526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19840" y="4868640"/>
              <a:ext cx="0" cy="5461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77000" y="5133600"/>
              <a:ext cx="2653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10200" y="4392360"/>
              <a:ext cx="266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ampa B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21680" y="356220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049640" y="5643000"/>
              <a:ext cx="4540320" cy="46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86240" y="553536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08680" y="55339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57760" y="553536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59680" y="553536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83400" y="55339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58000" y="55321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44880" y="5806800"/>
              <a:ext cx="49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 3    6    9   12   15   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307360" y="55339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49800" y="309852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30600" y="310824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97320" y="311760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93000" y="3112920"/>
              <a:ext cx="9972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02480" y="310824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70520" y="5074920"/>
              <a:ext cx="100080" cy="10188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43680" y="5082840"/>
              <a:ext cx="100080" cy="10188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11880" y="507672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07160" y="508608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94800" y="5081400"/>
              <a:ext cx="9972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517680" y="2295360"/>
            <a:ext cx="382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Compare the medians and range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61880" y="954720"/>
            <a:ext cx="82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1960" y="3292560"/>
            <a:ext cx="343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edian for Tampa Bay is significantly greater, however the range for Tampa Bay is slightly gre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859200" y="2449440"/>
            <a:ext cx="5056200" cy="3817080"/>
            <a:chOff x="3859200" y="2449440"/>
            <a:chExt cx="5056200" cy="3817080"/>
          </a:xfrm>
        </p:grpSpPr>
        <p:sp>
          <p:nvSpPr>
            <p:cNvPr id="428" name=""/>
            <p:cNvSpPr/>
            <p:nvPr/>
          </p:nvSpPr>
          <p:spPr>
            <a:xfrm flipV="1">
              <a:off x="3963960" y="3671280"/>
              <a:ext cx="4540320" cy="46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29120" y="2449440"/>
              <a:ext cx="26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ak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00560" y="356364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23000" y="356220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72080" y="356364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73640" y="356364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97720" y="356220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72320" y="3560400"/>
              <a:ext cx="0" cy="2178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59200" y="3816000"/>
              <a:ext cx="49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 3    6    9   12   15   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6920" y="2879640"/>
              <a:ext cx="1555920" cy="56196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56360" y="2879640"/>
              <a:ext cx="0" cy="561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94080" y="2879640"/>
              <a:ext cx="0" cy="561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51800" y="2879640"/>
              <a:ext cx="0" cy="561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99120" y="3160440"/>
              <a:ext cx="30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64280" y="3160440"/>
              <a:ext cx="5875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14800" y="5135400"/>
              <a:ext cx="108108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103800" y="4848120"/>
              <a:ext cx="1560600" cy="56196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69120" y="4868640"/>
              <a:ext cx="0" cy="549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954920" y="4846320"/>
              <a:ext cx="0" cy="5526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9840" y="4868640"/>
              <a:ext cx="0" cy="5461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77000" y="5133600"/>
              <a:ext cx="2653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10200" y="4392360"/>
              <a:ext cx="266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ampa B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1680" y="356220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4049640" y="5643000"/>
              <a:ext cx="4540320" cy="46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86240" y="553536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08680" y="55339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57760" y="553536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59680" y="553536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83400" y="55339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858000" y="55321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44880" y="5806800"/>
              <a:ext cx="49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 3    6    9   12   15   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307360" y="55339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49800" y="309852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30600" y="310824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97320" y="311760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93000" y="3112920"/>
              <a:ext cx="9972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02480" y="310824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70520" y="5074920"/>
              <a:ext cx="100080" cy="10188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043680" y="5082840"/>
              <a:ext cx="100080" cy="10188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11880" y="507672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07160" y="508608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894800" y="5081400"/>
              <a:ext cx="9972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458640" y="1749600"/>
            <a:ext cx="370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Compare the differences between the third quartile and first quartile for each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61880" y="954720"/>
            <a:ext cx="82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7720" y="3672000"/>
            <a:ext cx="367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fference between the third quartile and first quartile is the length of the box, which is slightly greater for Oak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859200" y="2449440"/>
            <a:ext cx="5056200" cy="3817080"/>
            <a:chOff x="3859200" y="2449440"/>
            <a:chExt cx="5056200" cy="3817080"/>
          </a:xfrm>
        </p:grpSpPr>
        <p:sp>
          <p:nvSpPr>
            <p:cNvPr id="474" name=""/>
            <p:cNvSpPr/>
            <p:nvPr/>
          </p:nvSpPr>
          <p:spPr>
            <a:xfrm flipV="1">
              <a:off x="3963960" y="3671280"/>
              <a:ext cx="4540320" cy="46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29120" y="2449440"/>
              <a:ext cx="26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ak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300560" y="356364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923000" y="356220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572080" y="356364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73640" y="356364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497720" y="356220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72320" y="3560400"/>
              <a:ext cx="0" cy="2178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59200" y="3816000"/>
              <a:ext cx="49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 3    6    9   12   15   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06920" y="2879640"/>
              <a:ext cx="1555920" cy="56196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56360" y="2879640"/>
              <a:ext cx="0" cy="561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94080" y="2879640"/>
              <a:ext cx="0" cy="561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51800" y="2879640"/>
              <a:ext cx="0" cy="561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99120" y="3160440"/>
              <a:ext cx="30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164280" y="3160440"/>
              <a:ext cx="5875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14800" y="5135400"/>
              <a:ext cx="108108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103800" y="4848120"/>
              <a:ext cx="1560600" cy="56196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269120" y="4868640"/>
              <a:ext cx="0" cy="549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54920" y="4846320"/>
              <a:ext cx="0" cy="5526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19840" y="4868640"/>
              <a:ext cx="0" cy="5461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77000" y="5133600"/>
              <a:ext cx="2653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10200" y="4392360"/>
              <a:ext cx="266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ampa B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221680" y="356220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4049640" y="5643000"/>
              <a:ext cx="4540320" cy="46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386240" y="553536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008680" y="55339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57760" y="553536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59680" y="553536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83400" y="55339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58000" y="55321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44880" y="5806800"/>
              <a:ext cx="49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 3    6    9   12   15   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307360" y="55339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249800" y="309852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30600" y="310824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97320" y="311760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93000" y="3112920"/>
              <a:ext cx="9972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702480" y="310824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970520" y="5074920"/>
              <a:ext cx="100080" cy="10188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43680" y="5082840"/>
              <a:ext cx="100080" cy="10188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211880" y="507672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07160" y="508608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894800" y="5081400"/>
              <a:ext cx="9972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894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33520" y="1754280"/>
            <a:ext cx="792468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range and the first and third quartile for each data set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8, 52, 68, 32, 53, 47,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, 18, 11, 2, 7, 5, 9, 6, 13, 1, 17, 8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95400" y="4756680"/>
            <a:ext cx="59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ange = 18; Q1 = 2.5; Q3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5400" y="3499200"/>
            <a:ext cx="52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ange = 36; Q1 = 47; Q3 =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894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3520" y="1638000"/>
            <a:ext cx="7924680" cy="39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following data for problems 3 and 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1, 87, 98, 93, 89, 78, 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ke a box-and-whisker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at is the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533600" y="5151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590840" y="3419640"/>
            <a:ext cx="6429240" cy="1144440"/>
            <a:chOff x="1590840" y="3419640"/>
            <a:chExt cx="6429240" cy="1144440"/>
          </a:xfrm>
        </p:grpSpPr>
        <p:sp>
          <p:nvSpPr>
            <p:cNvPr id="524" name=""/>
            <p:cNvSpPr/>
            <p:nvPr/>
          </p:nvSpPr>
          <p:spPr>
            <a:xfrm>
              <a:off x="1752480" y="4104360"/>
              <a:ext cx="626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78                 87       91    94        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38640" y="3419640"/>
              <a:ext cx="1990800" cy="447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90840" y="4114800"/>
              <a:ext cx="637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019240" y="39625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38640" y="39625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10080" y="39625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19720" y="39625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67480" y="39625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019240" y="3638520"/>
              <a:ext cx="2210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210360" y="3638520"/>
              <a:ext cx="1219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5410080" y="3429000"/>
              <a:ext cx="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53200" y="3571920"/>
              <a:ext cx="109440" cy="1094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600200"/>
            <a:ext cx="7667640" cy="2819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re the possible values fo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the data set 22, 12, 33, 25,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f the median is 25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6280" y="365760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any number greater than or equal to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2438280"/>
            <a:ext cx="8277480" cy="743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find measures of variability</a:t>
            </a:r>
            <a:r>
              <a:rPr b="0" lang="en-US" sz="3000" spc="-1" strike="noStrike">
                <a:solidFill>
                  <a:srgbClr val="000000"/>
                </a:solidFill>
                <a:latin typeface="AGaramon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828800"/>
            <a:ext cx="7162920" cy="27147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x-and-whisker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47800" y="1143000"/>
            <a:ext cx="767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able below summarizes a veterinarian’s records for kitten litters born in a given y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85800" y="2701800"/>
          <a:ext cx="5791320" cy="1681200"/>
        </p:xfrm>
        <a:graphic>
          <a:graphicData uri="http://schemas.openxmlformats.org/drawingml/2006/table">
            <a:tbl>
              <a:tblPr/>
              <a:tblGrid>
                <a:gridCol w="2803680"/>
                <a:gridCol w="568440"/>
                <a:gridCol w="600120"/>
                <a:gridCol w="590400"/>
                <a:gridCol w="671400"/>
                <a:gridCol w="557280"/>
              </a:tblGrid>
              <a:tr h="734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tter S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9933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ber of Lit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99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914400" y="4657680"/>
            <a:ext cx="75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le central tendency describes the middle of a data set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ariabil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escribes how spread out the data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2440" y="923760"/>
            <a:ext cx="8229600" cy="17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61920" y="1085760"/>
            <a:ext cx="736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a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 data set is the largest value minus the smallest val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9280" y="4697280"/>
            <a:ext cx="7495920" cy="15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0200" y="47322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ange is affected by outliers, so another measure is often used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Quarti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ivide a data set into four equal parts. The third quartile minus the first quartile is the range for the middle half of the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628640" y="2730600"/>
          <a:ext cx="5791320" cy="1681200"/>
        </p:xfrm>
        <a:graphic>
          <a:graphicData uri="http://schemas.openxmlformats.org/drawingml/2006/table">
            <a:tbl>
              <a:tblPr/>
              <a:tblGrid>
                <a:gridCol w="2803680"/>
                <a:gridCol w="568440"/>
                <a:gridCol w="600120"/>
                <a:gridCol w="590400"/>
                <a:gridCol w="673200"/>
                <a:gridCol w="55548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ter S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9933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Lit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99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961920" y="1085760"/>
            <a:ext cx="736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ange of a data set is the largest value minus the smallest value. For the kitten data, the range is 6 — 2 =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" y="46483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ange is affected by outliers, so another measure is often used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Quarti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ivide a data set into four equal parts. The third quartile minus the first quartile is the range for the middle half of the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2666880"/>
            <a:ext cx="6105600" cy="183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000080"/>
            <a:ext cx="7362720" cy="183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32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itte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38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3 3 3 3 3 3 4 4 4 4 4 4 4 4 5 5 5 5 5 5 5 5 5 5 5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23920" y="181944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Lower ha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05200" y="181944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Upper ha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2295360"/>
            <a:ext cx="3295800" cy="324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14920" y="2295360"/>
            <a:ext cx="3295440" cy="324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114560" y="2305080"/>
            <a:ext cx="3333600" cy="1173960"/>
            <a:chOff x="1114560" y="2305080"/>
            <a:chExt cx="3333600" cy="1173960"/>
          </a:xfrm>
        </p:grpSpPr>
        <p:sp>
          <p:nvSpPr>
            <p:cNvPr id="94" name=""/>
            <p:cNvSpPr/>
            <p:nvPr/>
          </p:nvSpPr>
          <p:spPr>
            <a:xfrm>
              <a:off x="1114560" y="2714760"/>
              <a:ext cx="3333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6600"/>
                  </a:solidFill>
                  <a:latin typeface="Verdana"/>
                </a:rPr>
                <a:t>First quartile: 3 median of lower hal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05040" y="2305080"/>
              <a:ext cx="238320" cy="304920"/>
            </a:xfrm>
            <a:custGeom>
              <a:avLst/>
              <a:gdLst>
                <a:gd name="textAreaLeft" fmla="*/ 11520 w 238320"/>
                <a:gd name="textAreaRight" fmla="*/ 226800 w 238320"/>
                <a:gd name="textAreaTop" fmla="*/ 11520 h 304920"/>
                <a:gd name="textAreaBottom" fmla="*/ 293400 h 304920"/>
              </a:gdLst>
              <a:ahLst/>
              <a:rect l="textAreaLeft" t="textAreaTop" r="textAreaRight" b="textAreaBottom"/>
              <a:pathLst>
                <a:path w="21600" h="27627">
                  <a:moveTo>
                    <a:pt x="3600" y="0"/>
                  </a:moveTo>
                  <a:arcTo wR="3600" hR="3600" stAng="16200000" swAng="-5400000"/>
                  <a:lnTo>
                    <a:pt x="0" y="24027"/>
                  </a:lnTo>
                  <a:arcTo wR="3600" hR="3600" stAng="10800000" swAng="-5400000"/>
                  <a:lnTo>
                    <a:pt x="18000" y="276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724280" y="2305080"/>
            <a:ext cx="3327480" cy="1164240"/>
            <a:chOff x="4724280" y="2305080"/>
            <a:chExt cx="3327480" cy="1164240"/>
          </a:xfrm>
        </p:grpSpPr>
        <p:sp>
          <p:nvSpPr>
            <p:cNvPr id="97" name=""/>
            <p:cNvSpPr/>
            <p:nvPr/>
          </p:nvSpPr>
          <p:spPr>
            <a:xfrm>
              <a:off x="4724280" y="2705040"/>
              <a:ext cx="3327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6600"/>
                  </a:solidFill>
                  <a:latin typeface="Verdana"/>
                </a:rPr>
                <a:t>Third quartile: 5 median of upper hal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29440" y="2305080"/>
              <a:ext cx="237960" cy="304920"/>
            </a:xfrm>
            <a:custGeom>
              <a:avLst/>
              <a:gdLst>
                <a:gd name="textAreaLeft" fmla="*/ 11520 w 237960"/>
                <a:gd name="textAreaRight" fmla="*/ 226440 w 237960"/>
                <a:gd name="textAreaTop" fmla="*/ 11520 h 304920"/>
                <a:gd name="textAreaBottom" fmla="*/ 293400 h 304920"/>
              </a:gdLst>
              <a:ahLst/>
              <a:rect l="textAreaLeft" t="textAreaTop" r="textAreaRight" b="textAreaBottom"/>
              <a:pathLst>
                <a:path w="21600" h="27669">
                  <a:moveTo>
                    <a:pt x="3600" y="0"/>
                  </a:moveTo>
                  <a:arcTo wR="3600" hR="3600" stAng="16200000" swAng="-5400000"/>
                  <a:lnTo>
                    <a:pt x="0" y="24069"/>
                  </a:lnTo>
                  <a:arcTo wR="3600" hR="3600" stAng="10800000" swAng="-5400000"/>
                  <a:lnTo>
                    <a:pt x="18000" y="276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295800" y="2295360"/>
            <a:ext cx="2628720" cy="1812240"/>
            <a:chOff x="3295800" y="2295360"/>
            <a:chExt cx="2628720" cy="1812240"/>
          </a:xfrm>
        </p:grpSpPr>
        <p:grpSp>
          <p:nvGrpSpPr>
            <p:cNvPr id="100" name=""/>
            <p:cNvGrpSpPr/>
            <p:nvPr/>
          </p:nvGrpSpPr>
          <p:grpSpPr>
            <a:xfrm>
              <a:off x="3295800" y="2295360"/>
              <a:ext cx="2628720" cy="1812240"/>
              <a:chOff x="3295800" y="2295360"/>
              <a:chExt cx="2628720" cy="1812240"/>
            </a:xfrm>
          </p:grpSpPr>
          <p:sp>
            <p:nvSpPr>
              <p:cNvPr id="101" name=""/>
              <p:cNvSpPr/>
              <p:nvPr/>
            </p:nvSpPr>
            <p:spPr>
              <a:xfrm>
                <a:off x="3295800" y="3343320"/>
                <a:ext cx="26287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ff6600"/>
                    </a:solidFill>
                    <a:latin typeface="Verdana"/>
                  </a:rPr>
                  <a:t>Median: 4 (second quartile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457880" y="2295360"/>
                <a:ext cx="237960" cy="304920"/>
              </a:xfrm>
              <a:custGeom>
                <a:avLst/>
                <a:gdLst>
                  <a:gd name="textAreaLeft" fmla="*/ 11520 w 237960"/>
                  <a:gd name="textAreaRight" fmla="*/ 226440 w 237960"/>
                  <a:gd name="textAreaTop" fmla="*/ 11520 h 304920"/>
                  <a:gd name="textAreaBottom" fmla="*/ 293400 h 304920"/>
                </a:gdLst>
                <a:ahLst/>
                <a:rect l="textAreaLeft" t="textAreaTop" r="textAreaRight" b="textAreaBottom"/>
                <a:pathLst>
                  <a:path w="21600" h="27669">
                    <a:moveTo>
                      <a:pt x="3600" y="0"/>
                    </a:moveTo>
                    <a:arcTo wR="3600" hR="3600" stAng="16200000" swAng="-5400000"/>
                    <a:lnTo>
                      <a:pt x="0" y="24069"/>
                    </a:lnTo>
                    <a:arcTo wR="3600" hR="3600" stAng="10800000" swAng="-5400000"/>
                    <a:lnTo>
                      <a:pt x="18000" y="276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 flipV="1">
              <a:off x="4591080" y="2619000"/>
              <a:ext cx="0" cy="723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7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525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25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525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25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range and the first and third quartiles for the data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360" y="115740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A: Finding Measures of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7240" y="2951280"/>
            <a:ext cx="70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15, 83, 75, 12, 19, 74,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1920" y="3594240"/>
            <a:ext cx="42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  15  19  21  74  75  8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42000" y="3578400"/>
            <a:ext cx="29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Order the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12920" y="4245120"/>
            <a:ext cx="37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ng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83 – 12 = 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85920" y="4960800"/>
            <a:ext cx="38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quarti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60360" y="5645160"/>
            <a:ext cx="38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quarti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2440" y="3591000"/>
            <a:ext cx="173700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62280" y="3591000"/>
            <a:ext cx="173664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9800" y="3611520"/>
            <a:ext cx="461880" cy="417600"/>
          </a:xfrm>
          <a:prstGeom prst="roundRect">
            <a:avLst>
              <a:gd name="adj" fmla="val 3840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16400" y="3610080"/>
            <a:ext cx="461880" cy="417240"/>
          </a:xfrm>
          <a:prstGeom prst="roundRect">
            <a:avLst>
              <a:gd name="adj" fmla="val 3840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range and the first and third quartiles for the data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360" y="115740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B: Finding Measures of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7240" y="2951280"/>
            <a:ext cx="70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75, 61, 88, 79, 79, 99, 63, 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31920" y="3594240"/>
            <a:ext cx="42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1 63 75 77 79 79 88 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12920" y="4245120"/>
            <a:ext cx="37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ng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99 – 61 = 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327320" y="4710240"/>
            <a:ext cx="5903640" cy="825480"/>
            <a:chOff x="1327320" y="4710240"/>
            <a:chExt cx="5903640" cy="825480"/>
          </a:xfrm>
        </p:grpSpPr>
        <p:sp>
          <p:nvSpPr>
            <p:cNvPr id="122" name=""/>
            <p:cNvSpPr/>
            <p:nvPr/>
          </p:nvSpPr>
          <p:spPr>
            <a:xfrm>
              <a:off x="1327320" y="4884840"/>
              <a:ext cx="59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rst quartile: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         = 6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73280" y="4710240"/>
              <a:ext cx="210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3 + 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6600" y="5137200"/>
              <a:ext cx="123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68280" y="5522760"/>
            <a:ext cx="6048360" cy="825480"/>
            <a:chOff x="1268280" y="5522760"/>
            <a:chExt cx="6048360" cy="825480"/>
          </a:xfrm>
        </p:grpSpPr>
        <p:sp>
          <p:nvSpPr>
            <p:cNvPr id="126" name=""/>
            <p:cNvSpPr/>
            <p:nvPr/>
          </p:nvSpPr>
          <p:spPr>
            <a:xfrm>
              <a:off x="1268280" y="5715000"/>
              <a:ext cx="60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hird quartile: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         = 83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73440" y="5522760"/>
              <a:ext cx="162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79 + 8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60640" y="5964120"/>
              <a:ext cx="12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252440" y="3591000"/>
            <a:ext cx="202716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81400" y="3591000"/>
            <a:ext cx="211752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5720" y="3611520"/>
            <a:ext cx="1031760" cy="4176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27440" y="3610080"/>
            <a:ext cx="1031760" cy="4172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42000" y="3578400"/>
            <a:ext cx="29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Order the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CSmith</cp:lastModifiedBy>
  <dcterms:modified xsi:type="dcterms:W3CDTF">2011-01-25T18:30:04Z</dcterms:modified>
  <cp:revision>35</cp:revision>
  <dc:subject/>
  <dc:title>Slide 1</dc:title>
</cp:coreProperties>
</file>